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24D-496B-4DB2-B9B3-4BBE8371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D81-6E61-4FFA-B2A1-FA255DC3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C3D-5806-4701-9D62-C0DE7935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B51-FD72-4138-AE13-5D38831C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386B-CD85-4F58-8202-53167401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DCE2-F705-43DE-A926-2E265530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FE1F-23E7-447B-8461-175D632B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A171-8807-4337-947D-EAC4D47A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8B97-1B53-436F-9CF0-332CFA7F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B613-398A-4B42-ACF4-5715F4A2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53EA-57AF-4FDD-ADD8-35DF3626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225-15B9-4868-8AC8-97729D40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392E-8DB6-4CCD-B4F2-DAE59882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AEEB-2C1E-491E-BAB9-EDA3883A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88C9-D1C4-42ED-9EE0-9E06516B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7D0D-7E0E-4B0A-AD2A-4B1F5AF5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F0F3-C381-4E50-A66B-C332D6A6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23A-3D9A-4381-9E61-D3183954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951-06CA-4530-A6AA-7E8D12B2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CBD-3DD0-4865-8600-756C271F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E86-D8D9-4731-8B70-01E3FF0D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942-B665-43B4-B994-1448F117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998-D955-4D50-BAC2-3B11187C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AAE-7E9E-479E-B79D-90ECC09C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FBAC-25AA-4EF2-93B3-C0C9C4CCF4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36B5-3754-4A16-8898-73CC338CC6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21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66ff"/>
                </a:solidFill>
                <a:latin typeface="Forte"/>
              </a:rPr>
              <a:t>Cara Deborah…..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809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565000"/>
            <a:ext cx="843588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ff"/>
                </a:solidFill>
                <a:latin typeface="Forte"/>
              </a:rPr>
              <a:t>Grazie quindi a te, Deborah, per aver contribuito alla mia/nostra crescita e al professor Lariccia per essere riuscito ad aprire nuovi spiragli di luce nella nostra testa!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1893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1052640"/>
            <a:ext cx="6984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Forte"/>
              </a:rPr>
              <a:t>..so bene che esserti sottoposta alla nostra intervista non è stata cosa semplice ma grazie a te abbiamo visto il mondo della scuola sotto un altro punto di vista.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48360" y="4869000"/>
            <a:ext cx="1743120" cy="1685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18716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97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Forte"/>
              </a:rPr>
              <a:t>..ora però voglio inserirti nel nostro mondo, quello universitario!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Forte"/>
              </a:rPr>
              <a:t>In questo mondo siamo riuscite ad aggiungere un piccolo mattoncino alla nostra esperienza personale, lavorando in gruppo per l’esame di matematica.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27640" y="4581360"/>
            <a:ext cx="221004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25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Forte"/>
              </a:rPr>
              <a:t>..siamo riuscite a cogliere una nuova sfaccettatura nel modo di insegnare attraverso le nuove tecnologie in modo da staccarsi dal vecchio mondo scolastico.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2663640" cy="189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80000" y="4581360"/>
            <a:ext cx="1076040" cy="98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508720" y="4149720"/>
            <a:ext cx="2989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ff"/>
                </a:solidFill>
                <a:latin typeface="Forte"/>
              </a:rPr>
              <a:t>..un mondo in cui i bambini attraverso iplozero e QQ.storie possono andare a sviluppare non solo la loro fantasia ma anche un nuovo mondo con i numeri, le forme e i colori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292716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Forte"/>
              </a:rPr>
              <a:t>..ma non solo questo, cara Deborah, sono anche riuscita a ritrovare un matematico importante come Nash con l’aiuto di un libro e del film “A Beautiful Mind”.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1704960" cy="268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72360" y="4005360"/>
            <a:ext cx="2403360" cy="209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5280" y="3933720"/>
            <a:ext cx="1444680" cy="185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340000" y="4616280"/>
            <a:ext cx="765000" cy="57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64000" y="4581360"/>
            <a:ext cx="76860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5472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Forte"/>
              </a:rPr>
              <a:t>..e oltre a Nash abbiamo riscoperto un sistema di numerazione elaborato in base 3 dal nostro gruppo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8130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Forte"/>
              </a:rPr>
              <a:t>..ho anche scoperto una nuova mamma: dalla scolaretta all’universitaria, passando per un mondo matematico che da sempre l’ha appassionata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6000" y="4437000"/>
            <a:ext cx="1400040" cy="2116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24360" y="4724280"/>
            <a:ext cx="2629080" cy="1733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492360" y="4581360"/>
            <a:ext cx="1409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Forte"/>
              </a:rPr>
              <a:t>..è stata un’esperienza che ha contribuito ad arricchire il mio mondo di studente, futura maestra ma anche persona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76720" y="3933720"/>
            <a:ext cx="26463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8:10:59Z</dcterms:created>
  <dc:creator>Sistemi Informativi</dc:creator>
  <dc:description/>
  <dc:language>en-US</dc:language>
  <cp:lastModifiedBy>Sistemi Informativi</cp:lastModifiedBy>
  <dcterms:modified xsi:type="dcterms:W3CDTF">2011-02-11T08:49:45Z</dcterms:modified>
  <cp:revision>2</cp:revision>
  <dc:subject/>
  <dc:title>Cara Deborah…..</dc:title>
</cp:coreProperties>
</file>